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D45-CA6C-4E68-98F0-3CDFEE12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8B0-B550-4495-A29E-87916819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085-8C93-4BE3-B508-44808083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697-1D43-4C02-AD5B-C55D5558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9504-29AF-44FD-8FA5-3FBA6E77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3089-DDDB-4320-8CE1-2701C032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8D6C-58F1-4855-9874-3C121E61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C3D7-2175-44D6-8E59-7179BC76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F538-C10C-4663-8E67-E5B9F04C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F7DD-B8CB-486E-BA6D-FA00FA71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C2B9-6DF9-44FE-A1C6-69EA0078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0FA-7A3E-4C0D-9B31-3AA4893A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B6CA-BE7D-48B2-99FA-C1A83D2D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94C9-2820-4A8B-9E42-C9A7BF81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399A-2828-4FF3-BDD0-615C31BA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6E23-19DA-4477-AB71-6CE6F1F5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0BB2-650B-4494-9D1E-CF5DA989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205-FAAE-46B6-BF31-B984890B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BF0-EC1F-4C74-8FDB-D913C6EB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3EC-75C3-43C0-97AC-98AFC51E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E34-4FA2-481B-AE4D-D0D2839E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5E9-5143-4D65-8C6F-DA2BDE00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986-D8FE-48AB-8F69-A020893C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196-300D-4157-9AB2-53EB9F47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7D8E-AA89-48F8-8172-FEDACF8FD1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2E4C-22F0-4076-BFFD-9A2A4F95EB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Word Ladders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econd Gra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2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king -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6   Week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Kristi Wal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deli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deli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5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d four letters at the end of deli to make a new word for something that is dainty or breakable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1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700" spc="-1" strike="noStrike">
                <a:solidFill>
                  <a:srgbClr val="000000"/>
                </a:solidFill>
                <a:latin typeface="Arial"/>
              </a:rPr>
              <a:t>delicate</a:t>
            </a:r>
            <a:endParaRPr b="0" lang="en-US" sz="1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1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7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167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n-US" sz="16700" spc="-1" strike="noStrike">
                <a:solidFill>
                  <a:srgbClr val="00ff00"/>
                </a:solidFill>
                <a:latin typeface="Arial"/>
              </a:rPr>
              <a:t>ic</a:t>
            </a:r>
            <a:r>
              <a:rPr b="0" lang="en-US" sz="167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67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1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0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ake away the highlighted letters in delicate and use the remaining letters to spell a word for a simple story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tale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tal</a:t>
            </a:r>
            <a:r>
              <a:rPr b="0" lang="en-US" sz="193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6840" y="1066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rade the highlighted letter for an i and scramble the letters to make a homonym for tale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9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 a letter to tail to make a word for a pathway that you might hike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trail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0"/>
            <a:ext cx="75438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You’ve just gone from hiking to trail in nine words.</a:t>
            </a:r>
            <a:r>
              <a:rPr b="0" lang="en-US" sz="6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"/>
              </a:rPr>
              <a:t>Way to go!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MCj04160340000[1]"/>
          <p:cNvPicPr/>
          <p:nvPr/>
        </p:nvPicPr>
        <p:blipFill>
          <a:blip r:embed="rId1"/>
          <a:stretch/>
        </p:blipFill>
        <p:spPr>
          <a:xfrm>
            <a:off x="2286000" y="3962520"/>
            <a:ext cx="3745080" cy="27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 the bottom rung of your ladder spell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7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hiking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644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nge the suffix of hiking to make the past tense of hike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hik</a:t>
            </a:r>
            <a:r>
              <a:rPr b="0" lang="en-US" sz="19300" spc="-1" strike="noStrike">
                <a:solidFill>
                  <a:srgbClr val="00ff00"/>
                </a:solidFill>
                <a:latin typeface="Arial"/>
              </a:rPr>
              <a:t>ing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644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one letter in hiked to make a word that means someone felt good about something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rop one letter from liked and make a word for having been untruthful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lied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lied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ramble the letters in lied to make a word for a shop with lunch meats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2:08:58Z</dcterms:created>
  <dc:creator>Jefferson County BoE</dc:creator>
  <dc:description/>
  <dc:language>en-US</dc:language>
  <cp:lastModifiedBy>teacher</cp:lastModifiedBy>
  <dcterms:modified xsi:type="dcterms:W3CDTF">2011-04-18T14:17:04Z</dcterms:modified>
  <cp:revision>6</cp:revision>
  <dc:subject/>
  <dc:title>Word Ladders First Grade</dc:title>
</cp:coreProperties>
</file>